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3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127-1CDE-4E4D-A300-DCAF2EB5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0AA-228E-4EE9-9D99-E102866D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249E-F1DC-4784-95EC-F9E65572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84D-3D68-4D49-9CAE-4371A909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DA8-59E5-49DC-82CE-22C00BB9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EFA-B7A4-4D87-B45A-EB36E433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0BF-43EC-46B7-810D-E3112003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A4C-4E0C-4B4E-B877-AB445D58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300-2A04-41EB-8A33-FB4091F0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DCC-11D1-4B00-BB53-609945E7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F51-2479-4091-87F3-1113523B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591-6D1C-48F3-A002-D59E6DE2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D795-5F72-408B-BC15-5EDEF4C7E13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asic Airplane Instruments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Jason Maloney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MITFC Ground Schoo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all 2009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Gyroscopes &amp; Precession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Force felt 90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°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later in direction of rotation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ir flow from vacuum system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6" name="Text Placeholder 29" descr=""/>
          <p:cNvPicPr/>
          <p:nvPr/>
        </p:nvPicPr>
        <p:blipFill>
          <a:blip r:embed="rId2"/>
          <a:stretch/>
        </p:blipFill>
        <p:spPr>
          <a:xfrm>
            <a:off x="1276200" y="3835440"/>
            <a:ext cx="2914920" cy="2870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84192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Vacuum System and Instruments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48104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onitor vacuum pressure during fligh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ome airplanes have back-up vacuum sour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0" name="Text Placeholder 29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6934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Turn &amp; Slip / Turn Coordinato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0680"/>
            <a:ext cx="67816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urn coordinator shows both rate of roll and rate of turn (canted gyro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urn-and-slip only shows rate of tur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3" name="Text Placeholder 29" descr=""/>
          <p:cNvPicPr/>
          <p:nvPr/>
        </p:nvPicPr>
        <p:blipFill>
          <a:blip r:embed="rId2"/>
          <a:stretch/>
        </p:blipFill>
        <p:spPr>
          <a:xfrm>
            <a:off x="914400" y="3406680"/>
            <a:ext cx="67816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Turn Coordination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ep on the ball”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oordinated turns will help prevent spin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andard rate turn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°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per secon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2 minute turn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6" name="Text Placeholder 29" descr=""/>
          <p:cNvPicPr/>
          <p:nvPr/>
        </p:nvPicPr>
        <p:blipFill>
          <a:blip r:embed="rId2"/>
          <a:stretch/>
        </p:blipFill>
        <p:spPr>
          <a:xfrm>
            <a:off x="4734000" y="1600200"/>
            <a:ext cx="3867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ttitude Indicator (AD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240" y="148104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Instantaneous indication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Your aircraft rotates around the gy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9" name="Text Placeholder 29" descr=""/>
          <p:cNvPicPr/>
          <p:nvPr/>
        </p:nvPicPr>
        <p:blipFill>
          <a:blip r:embed="rId2"/>
          <a:stretch/>
        </p:blipFill>
        <p:spPr>
          <a:xfrm>
            <a:off x="4648320" y="1606680"/>
            <a:ext cx="40384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Reading an Attitude Indicato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ompare miniature airplane to artificial horiz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djust airplane to match horizon during straight-and-level fligh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2" name="Text Placeholder 29" descr=""/>
          <p:cNvPicPr/>
          <p:nvPr/>
        </p:nvPicPr>
        <p:blipFill>
          <a:blip r:embed="rId2"/>
          <a:stretch/>
        </p:blipFill>
        <p:spPr>
          <a:xfrm>
            <a:off x="5092560" y="1143000"/>
            <a:ext cx="3216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Directional Gyro (DG)</a:t>
            </a:r>
            <a:br>
              <a:rPr sz="3700"/>
            </a:b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a.k.a. Heading Indicator 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ust set the DG to a known heading before u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eadjust periodically due to 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5" name="Text Placeholder 29" descr=""/>
          <p:cNvPicPr/>
          <p:nvPr/>
        </p:nvPicPr>
        <p:blipFill>
          <a:blip r:embed="rId2"/>
          <a:stretch/>
        </p:blipFill>
        <p:spPr>
          <a:xfrm>
            <a:off x="4873680" y="1481040"/>
            <a:ext cx="358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Magnetic Compass &amp; Errors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10666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Vari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agnetic vs. True North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eference Isogonic line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i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: Northern Hemisphere Turning Err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ndershoot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rth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vershoot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uth (</a:t>
            </a:r>
            <a:r>
              <a:rPr b="0" lang="en-US" sz="1800" spc="-1" strike="noStrike">
                <a:solidFill>
                  <a:srgbClr val="ff8119"/>
                </a:solidFill>
                <a:latin typeface="Lucida Sans Unicode"/>
              </a:rPr>
              <a:t>UNO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ccurate indication at 90 &amp; 270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i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: Acceleration Err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n East or West heading: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celerate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rth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celerate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uth (</a:t>
            </a:r>
            <a:r>
              <a:rPr b="0" lang="en-US" sz="1800" spc="-1" strike="noStrike">
                <a:solidFill>
                  <a:srgbClr val="ff8119"/>
                </a:solidFill>
                <a:latin typeface="Lucida Sans Unicode"/>
              </a:rPr>
              <a:t>AND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evi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Local magnetic fields (i.e. from radio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8" name="Text Placeholder 29" descr=""/>
          <p:cNvPicPr/>
          <p:nvPr/>
        </p:nvPicPr>
        <p:blipFill>
          <a:blip r:embed="rId2"/>
          <a:stretch/>
        </p:blipFill>
        <p:spPr>
          <a:xfrm>
            <a:off x="4724280" y="1438200"/>
            <a:ext cx="3886200" cy="342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346640" y="4927680"/>
            <a:ext cx="46450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Pitot-Static System &amp; Instruments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8104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irspeed Indicator (Pitot and 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ertical Speed Indicator (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ltimeter (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itot Heat to prevent/melt i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657600" y="2486160"/>
            <a:ext cx="5334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ltimete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320" y="15238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afers sealed at Standard Pressure of 29.92” Hg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djust altimeter setting in Kollsman Window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1”Hg = 1,000 ft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Set to field elevation if no setting availabl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ypes of Altitude: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Indicated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rue Altitude (MSL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Pressure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bsolute Altitude (AGL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Density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4" name="Text Placeholder 29" descr=""/>
          <p:cNvPicPr/>
          <p:nvPr/>
        </p:nvPicPr>
        <p:blipFill>
          <a:blip r:embed="rId2"/>
          <a:stretch/>
        </p:blipFill>
        <p:spPr>
          <a:xfrm>
            <a:off x="4695840" y="990720"/>
            <a:ext cx="3940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Nonstandard Temp. &amp; Pressur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High to Low or Hot to Cold, look out below!”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7" name="Text Placeholder 29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6934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Vertical Speed Indicator (VS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76120"/>
            <a:ext cx="403848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ate of climb or descent in feet per minut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atic pressure differential instrumen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Wafers at ambient pressur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Diaphragm exposed to ambient pressure, but with calibrated leak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SI lag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rend and Rate inform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0" name="Text Placeholder 29" descr=""/>
          <p:cNvPicPr/>
          <p:nvPr/>
        </p:nvPicPr>
        <p:blipFill>
          <a:blip r:embed="rId2"/>
          <a:stretch/>
        </p:blipFill>
        <p:spPr>
          <a:xfrm>
            <a:off x="4648320" y="1604880"/>
            <a:ext cx="40384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irspeed Indicator (AS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1252440"/>
            <a:ext cx="487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Dynamic and static pressure differential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ypes of Airspeed: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Indicated (I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Calibrated (C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rue (T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Groundspeed (G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ome V-speed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so -stall w/ flaps (“dirty”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s1-stall w/o flaps (“clean”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fe -max flap exten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no -max structural cruis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ne -never exc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3" name="Text Placeholder 29" descr=""/>
          <p:cNvPicPr/>
          <p:nvPr/>
        </p:nvPicPr>
        <p:blipFill>
          <a:blip r:embed="rId2"/>
          <a:srcRect l="0" t="0" r="0" b="7621"/>
          <a:stretch/>
        </p:blipFill>
        <p:spPr>
          <a:xfrm>
            <a:off x="5029200" y="1143000"/>
            <a:ext cx="3276720" cy="27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81480" y="3962520"/>
            <a:ext cx="28926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locked Pitot Tube (inlet only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am air exits via drai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essure equalizes to static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decreases to ze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8066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Blocked Pitot System </a:t>
            </a:r>
            <a:br>
              <a:rPr sz="3700"/>
            </a:b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(inlet and drain)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481040"/>
            <a:ext cx="46483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Frozen at constant altitud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acts as an altimeter: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 climb will show an increased airsp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Descent will show decreased airsp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otentially very dangerous!!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hy?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hat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Lucida Sans Unicode"/>
              </a:rPr>
              <a:t>should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happen as you climb? Descend?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Can lead to stall and/or in-flight breakup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0" name="Text Placeholder 29" descr=""/>
          <p:cNvPicPr/>
          <p:nvPr/>
        </p:nvPicPr>
        <p:blipFill>
          <a:blip r:embed="rId2"/>
          <a:stretch/>
        </p:blipFill>
        <p:spPr>
          <a:xfrm>
            <a:off x="5295960" y="762120"/>
            <a:ext cx="3695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locked Static Por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continues to operate, but incorrectly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Behaves somewhat as an altimeter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SI reads ze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ltimeter frozen at altitude where blockage occurred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ry alternate static sour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Mechanical, or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Break face of VSI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3" name="Text Placeholder 29" descr=""/>
          <p:cNvPicPr/>
          <p:nvPr/>
        </p:nvPicPr>
        <p:blipFill>
          <a:blip r:embed="rId2"/>
          <a:stretch/>
        </p:blipFill>
        <p:spPr>
          <a:xfrm>
            <a:off x="4678200" y="1481040"/>
            <a:ext cx="397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8:52:59Z</dcterms:created>
  <dc:creator>JMALONEY</dc:creator>
  <dc:description/>
  <dc:language>en-US</dc:language>
  <cp:lastModifiedBy>JMALONEY</cp:lastModifiedBy>
  <dcterms:modified xsi:type="dcterms:W3CDTF">2009-11-17T21:55:30Z</dcterms:modified>
  <cp:revision>15</cp:revision>
  <dc:subject/>
  <dc:title>Slide 1</dc:title>
</cp:coreProperties>
</file>